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92000" y="836280"/>
            <a:ext cx="52830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Arial"/>
                <a:ea typeface="宋体"/>
              </a:rPr>
              <a:t>百分数</a:t>
            </a: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TextBox 3"/>
          <p:cNvSpPr/>
          <p:nvPr/>
        </p:nvSpPr>
        <p:spPr>
          <a:xfrm>
            <a:off x="1114560" y="1986120"/>
            <a:ext cx="734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解决问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5" descr="\\192.168.1.3\临时中转站1_以本人姓名建目录\开发中心-多媒体部\02美术部\晨会文件\04宁煌\人教数学教参\06.png"/>
          <p:cNvPicPr/>
          <p:nvPr/>
        </p:nvPicPr>
        <p:blipFill>
          <a:blip r:embed="rId2"/>
          <a:stretch/>
        </p:blipFill>
        <p:spPr>
          <a:xfrm>
            <a:off x="684360" y="942840"/>
            <a:ext cx="785520" cy="78588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/>
          <p:nvPr/>
        </p:nvSpPr>
        <p:spPr>
          <a:xfrm>
            <a:off x="2097360" y="3483000"/>
            <a:ext cx="56160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313000" y="3699000"/>
            <a:ext cx="56160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01560" y="1384200"/>
            <a:ext cx="6229440" cy="21592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知识应用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324000" y="1494000"/>
            <a:ext cx="1152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4888080" y="2195640"/>
            <a:ext cx="45720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月初鸡蛋价格比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月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涨了还是跌了？涨跌幅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多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0"/>
          <p:cNvSpPr/>
          <p:nvPr/>
        </p:nvSpPr>
        <p:spPr>
          <a:xfrm>
            <a:off x="3780000" y="3664080"/>
            <a:ext cx="590544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）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＋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10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%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）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15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%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）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0.9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）（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0.935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）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÷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0.065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6.5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答：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9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月初鸡蛋价格比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月初跌了，跌了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6.5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%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250920" y="3933720"/>
            <a:ext cx="3546360" cy="1825560"/>
            <a:chOff x="250920" y="3933720"/>
            <a:chExt cx="3546360" cy="1825560"/>
          </a:xfrm>
        </p:grpSpPr>
        <p:sp>
          <p:nvSpPr>
            <p:cNvPr id="130" name="AutoShape 27"/>
            <p:cNvSpPr/>
            <p:nvPr/>
          </p:nvSpPr>
          <p:spPr>
            <a:xfrm>
              <a:off x="1548000" y="4076640"/>
              <a:ext cx="2249280" cy="1682640"/>
            </a:xfrm>
            <a:prstGeom prst="wedgeRoundRectCallout">
              <a:avLst>
                <a:gd name="adj1" fmla="val -60513"/>
                <a:gd name="adj2" fmla="val -1584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先和同桌说一说你的想法，再用你自己最喜欢的方法做一做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" name="" descr=""/>
            <p:cNvPicPr/>
            <p:nvPr/>
          </p:nvPicPr>
          <p:blipFill>
            <a:blip r:embed="rId3"/>
            <a:stretch/>
          </p:blipFill>
          <p:spPr>
            <a:xfrm>
              <a:off x="250920" y="3933720"/>
              <a:ext cx="1122480" cy="1800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知识应用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324000" y="1501920"/>
            <a:ext cx="943272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某服装店的老板，将两件不同的衣服均以每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元的价格出售，结果一件赚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%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另一件赔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%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小刚说这个老板正好不赔也不赚。你同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小刚的说法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5"/>
          <p:cNvSpPr/>
          <p:nvPr/>
        </p:nvSpPr>
        <p:spPr>
          <a:xfrm>
            <a:off x="3635280" y="3573360"/>
            <a:ext cx="511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180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÷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＋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20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%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）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150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（元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180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÷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20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%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）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225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（元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180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360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（元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150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＋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225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375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（元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375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元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＞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360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答：老板赔了，小刚说得不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03040" y="4149720"/>
            <a:ext cx="3367080" cy="1800360"/>
            <a:chOff x="203040" y="4149720"/>
            <a:chExt cx="3367080" cy="1800360"/>
          </a:xfrm>
        </p:grpSpPr>
        <p:sp>
          <p:nvSpPr>
            <p:cNvPr id="136" name="AutoShape 27"/>
            <p:cNvSpPr/>
            <p:nvPr/>
          </p:nvSpPr>
          <p:spPr>
            <a:xfrm>
              <a:off x="1355400" y="4292640"/>
              <a:ext cx="2214720" cy="530280"/>
            </a:xfrm>
            <a:prstGeom prst="wedgeRoundRectCallout">
              <a:avLst>
                <a:gd name="adj1" fmla="val -59388"/>
                <a:gd name="adj2" fmla="val 5838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我是这样想的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7" name="" descr=""/>
            <p:cNvPicPr/>
            <p:nvPr/>
          </p:nvPicPr>
          <p:blipFill>
            <a:blip r:embed="rId2"/>
            <a:stretch/>
          </p:blipFill>
          <p:spPr>
            <a:xfrm>
              <a:off x="203040" y="4149720"/>
              <a:ext cx="1122480" cy="1800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四、布置作业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9" name="TextBox 5"/>
          <p:cNvSpPr/>
          <p:nvPr/>
        </p:nvSpPr>
        <p:spPr>
          <a:xfrm>
            <a:off x="611280" y="2205000"/>
            <a:ext cx="8856720" cy="18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作业：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9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页练习十九，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题、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题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一、复习旧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468360" y="1521000"/>
            <a:ext cx="8496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说一说下面各题中表示单位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的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4"/>
          <p:cNvSpPr/>
          <p:nvPr/>
        </p:nvSpPr>
        <p:spPr>
          <a:xfrm>
            <a:off x="324000" y="2205000"/>
            <a:ext cx="7920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连环画的本数是故事书本数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7.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%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直接连接符 11"/>
          <p:cNvSpPr/>
          <p:nvPr/>
        </p:nvSpPr>
        <p:spPr>
          <a:xfrm>
            <a:off x="2916360" y="2670120"/>
            <a:ext cx="1150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24000" y="3068640"/>
            <a:ext cx="8532720" cy="639000"/>
            <a:chOff x="324000" y="3068640"/>
            <a:chExt cx="8532720" cy="639000"/>
          </a:xfrm>
        </p:grpSpPr>
        <p:sp>
          <p:nvSpPr>
            <p:cNvPr id="48" name="TextBox 12"/>
            <p:cNvSpPr/>
            <p:nvPr/>
          </p:nvSpPr>
          <p:spPr>
            <a:xfrm>
              <a:off x="324000" y="3068640"/>
              <a:ext cx="8532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）美术小组的人数相当于科技小组人数的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60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%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Box 17"/>
            <p:cNvSpPr/>
            <p:nvPr/>
          </p:nvSpPr>
          <p:spPr>
            <a:xfrm>
              <a:off x="7453440" y="3284640"/>
              <a:ext cx="8650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直接连接符 19"/>
          <p:cNvSpPr/>
          <p:nvPr/>
        </p:nvSpPr>
        <p:spPr>
          <a:xfrm>
            <a:off x="3708360" y="3500280"/>
            <a:ext cx="1440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1"/>
          <p:cNvSpPr/>
          <p:nvPr/>
        </p:nvSpPr>
        <p:spPr>
          <a:xfrm>
            <a:off x="324000" y="3932280"/>
            <a:ext cx="7993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冰箱价格的     是洗衣机的价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直接连接符 29"/>
          <p:cNvSpPr/>
          <p:nvPr/>
        </p:nvSpPr>
        <p:spPr>
          <a:xfrm>
            <a:off x="1116000" y="4384800"/>
            <a:ext cx="1008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30"/>
          <p:cNvSpPr/>
          <p:nvPr/>
        </p:nvSpPr>
        <p:spPr>
          <a:xfrm>
            <a:off x="324000" y="4776840"/>
            <a:ext cx="882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苹果树的棵数是梨树棵数的     ，桃树棵数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苹果树棵数的    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直接连接符 39"/>
          <p:cNvSpPr/>
          <p:nvPr/>
        </p:nvSpPr>
        <p:spPr>
          <a:xfrm>
            <a:off x="2881440" y="5272200"/>
            <a:ext cx="1008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直接连接符 41"/>
          <p:cNvSpPr/>
          <p:nvPr/>
        </p:nvSpPr>
        <p:spPr>
          <a:xfrm>
            <a:off x="1116000" y="5748480"/>
            <a:ext cx="122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2386080" y="3745080"/>
            <a:ext cx="511200" cy="778320"/>
            <a:chOff x="2386080" y="3745080"/>
            <a:chExt cx="511200" cy="778320"/>
          </a:xfrm>
        </p:grpSpPr>
        <p:sp>
          <p:nvSpPr>
            <p:cNvPr id="57" name=""/>
            <p:cNvSpPr/>
            <p:nvPr/>
          </p:nvSpPr>
          <p:spPr>
            <a:xfrm>
              <a:off x="2392560" y="4100400"/>
              <a:ext cx="504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6080" y="3745080"/>
              <a:ext cx="3603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430360" y="4163760"/>
              <a:ext cx="252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4160880" y="4732200"/>
            <a:ext cx="511200" cy="778680"/>
            <a:chOff x="4160880" y="4732200"/>
            <a:chExt cx="511200" cy="778680"/>
          </a:xfrm>
        </p:grpSpPr>
        <p:sp>
          <p:nvSpPr>
            <p:cNvPr id="61" name=""/>
            <p:cNvSpPr/>
            <p:nvPr/>
          </p:nvSpPr>
          <p:spPr>
            <a:xfrm>
              <a:off x="4167360" y="5087880"/>
              <a:ext cx="504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160880" y="4732200"/>
              <a:ext cx="3603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205160" y="5151240"/>
              <a:ext cx="252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2584440" y="5146560"/>
            <a:ext cx="511200" cy="778680"/>
            <a:chOff x="2584440" y="5146560"/>
            <a:chExt cx="511200" cy="778680"/>
          </a:xfrm>
        </p:grpSpPr>
        <p:sp>
          <p:nvSpPr>
            <p:cNvPr id="65" name=""/>
            <p:cNvSpPr/>
            <p:nvPr/>
          </p:nvSpPr>
          <p:spPr>
            <a:xfrm>
              <a:off x="2590920" y="5502240"/>
              <a:ext cx="504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584440" y="5146560"/>
              <a:ext cx="3603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628720" y="5565600"/>
              <a:ext cx="252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2097360" y="3483000"/>
            <a:ext cx="56160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313000" y="3699000"/>
            <a:ext cx="56160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29000" y="3914640"/>
            <a:ext cx="56160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8435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TextBox 10"/>
          <p:cNvSpPr/>
          <p:nvPr/>
        </p:nvSpPr>
        <p:spPr>
          <a:xfrm>
            <a:off x="574560" y="1411200"/>
            <a:ext cx="8245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某种商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月的价格比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月降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%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月的价格比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月又涨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%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月的价格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月比是涨了还是降了？变化幅度是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324000" y="2997360"/>
            <a:ext cx="4124160" cy="1800000"/>
            <a:chOff x="324000" y="2997360"/>
            <a:chExt cx="4124160" cy="1800000"/>
          </a:xfrm>
        </p:grpSpPr>
        <p:sp>
          <p:nvSpPr>
            <p:cNvPr id="74" name="AutoShape 27"/>
            <p:cNvSpPr/>
            <p:nvPr/>
          </p:nvSpPr>
          <p:spPr>
            <a:xfrm>
              <a:off x="1567080" y="3259080"/>
              <a:ext cx="2881080" cy="888480"/>
            </a:xfrm>
            <a:prstGeom prst="wedgeRoundRectCallout">
              <a:avLst>
                <a:gd name="adj1" fmla="val -57217"/>
                <a:gd name="adj2" fmla="val -571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读一读题，你都知道了什么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5" name="" descr=""/>
            <p:cNvPicPr/>
            <p:nvPr/>
          </p:nvPicPr>
          <p:blipFill>
            <a:blip r:embed="rId2"/>
            <a:stretch/>
          </p:blipFill>
          <p:spPr>
            <a:xfrm>
              <a:off x="324000" y="2997360"/>
              <a:ext cx="1122480" cy="1800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" name=""/>
          <p:cNvGrpSpPr/>
          <p:nvPr/>
        </p:nvGrpSpPr>
        <p:grpSpPr>
          <a:xfrm>
            <a:off x="4067280" y="4149720"/>
            <a:ext cx="4886280" cy="2087640"/>
            <a:chOff x="4067280" y="4149720"/>
            <a:chExt cx="4886280" cy="2087640"/>
          </a:xfrm>
        </p:grpSpPr>
        <p:sp>
          <p:nvSpPr>
            <p:cNvPr id="77" name="AutoShape 27"/>
            <p:cNvSpPr/>
            <p:nvPr/>
          </p:nvSpPr>
          <p:spPr>
            <a:xfrm>
              <a:off x="4067280" y="4149720"/>
              <a:ext cx="3386160" cy="2087640"/>
            </a:xfrm>
            <a:prstGeom prst="wedgeRoundRectCallout">
              <a:avLst>
                <a:gd name="adj1" fmla="val 59472"/>
                <a:gd name="adj2" fmla="val -2429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现在我们只知道每两个月之间价格的变化幅度，但商品原来的价格却未知，想一想可以怎么办呢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你会解答吗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8" name="" descr=""/>
            <p:cNvPicPr/>
            <p:nvPr/>
          </p:nvPicPr>
          <p:blipFill>
            <a:blip r:embed="rId3"/>
            <a:stretch/>
          </p:blipFill>
          <p:spPr>
            <a:xfrm>
              <a:off x="7524720" y="4149720"/>
              <a:ext cx="1428840" cy="1798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" name=""/>
          <p:cNvSpPr/>
          <p:nvPr/>
        </p:nvSpPr>
        <p:spPr>
          <a:xfrm>
            <a:off x="2176560" y="5300640"/>
            <a:ext cx="56160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1" name="TextBox 23"/>
          <p:cNvSpPr/>
          <p:nvPr/>
        </p:nvSpPr>
        <p:spPr>
          <a:xfrm>
            <a:off x="3540240" y="2925720"/>
            <a:ext cx="611964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）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月份价格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  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100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20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%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）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100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80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%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80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（元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）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月份价格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  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80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＋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20%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）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80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120%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96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（元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）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月份和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月份价格比较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  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96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元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100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）变化幅度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     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100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96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）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÷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100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4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÷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100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4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答：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月的价格和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月比降了，变化幅度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       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降低了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4%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-52560" y="2789280"/>
            <a:ext cx="3814560" cy="1800360"/>
            <a:chOff x="-52560" y="2789280"/>
            <a:chExt cx="3814560" cy="1800360"/>
          </a:xfrm>
        </p:grpSpPr>
        <p:sp>
          <p:nvSpPr>
            <p:cNvPr id="83" name="AutoShape 27"/>
            <p:cNvSpPr/>
            <p:nvPr/>
          </p:nvSpPr>
          <p:spPr>
            <a:xfrm>
              <a:off x="1189800" y="3051360"/>
              <a:ext cx="2572200" cy="888840"/>
            </a:xfrm>
            <a:prstGeom prst="wedgeRoundRectCallout">
              <a:avLst>
                <a:gd name="adj1" fmla="val -58083"/>
                <a:gd name="adj2" fmla="val -571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可以假设此商品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月的价格是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元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" name="" descr=""/>
            <p:cNvPicPr/>
            <p:nvPr/>
          </p:nvPicPr>
          <p:blipFill>
            <a:blip r:embed="rId2"/>
            <a:stretch/>
          </p:blipFill>
          <p:spPr>
            <a:xfrm>
              <a:off x="-52560" y="2789280"/>
              <a:ext cx="1121760" cy="180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" name="TextBox 10"/>
          <p:cNvSpPr/>
          <p:nvPr/>
        </p:nvSpPr>
        <p:spPr>
          <a:xfrm>
            <a:off x="574560" y="1411200"/>
            <a:ext cx="8245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某种商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月的价格比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月降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%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月的价格比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月又涨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%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月的价格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月比是涨了还是降了？变化幅度是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61308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7" name="TextBox 13"/>
          <p:cNvSpPr/>
          <p:nvPr/>
        </p:nvSpPr>
        <p:spPr>
          <a:xfrm>
            <a:off x="684360" y="3933720"/>
            <a:ext cx="845964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）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20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%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）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＋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20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%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）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0.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）（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0.96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）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÷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0.04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4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答：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月的价格和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月比降了，变化幅度是降低了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4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%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0" y="2924280"/>
            <a:ext cx="3203640" cy="1800000"/>
            <a:chOff x="0" y="2924280"/>
            <a:chExt cx="3203640" cy="1800000"/>
          </a:xfrm>
        </p:grpSpPr>
        <p:sp>
          <p:nvSpPr>
            <p:cNvPr id="89" name="AutoShape 27"/>
            <p:cNvSpPr/>
            <p:nvPr/>
          </p:nvSpPr>
          <p:spPr>
            <a:xfrm>
              <a:off x="1243080" y="3186000"/>
              <a:ext cx="1960560" cy="888480"/>
            </a:xfrm>
            <a:prstGeom prst="wedgeRoundRectCallout">
              <a:avLst>
                <a:gd name="adj1" fmla="val -60606"/>
                <a:gd name="adj2" fmla="val -571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想一想还可以怎样做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" descr=""/>
            <p:cNvPicPr/>
            <p:nvPr/>
          </p:nvPicPr>
          <p:blipFill>
            <a:blip r:embed="rId2"/>
            <a:stretch/>
          </p:blipFill>
          <p:spPr>
            <a:xfrm>
              <a:off x="0" y="2924280"/>
              <a:ext cx="1122480" cy="1800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1" name=""/>
          <p:cNvGrpSpPr/>
          <p:nvPr/>
        </p:nvGrpSpPr>
        <p:grpSpPr>
          <a:xfrm>
            <a:off x="4067280" y="2997360"/>
            <a:ext cx="4608360" cy="1798560"/>
            <a:chOff x="4067280" y="2997360"/>
            <a:chExt cx="4608360" cy="1798560"/>
          </a:xfrm>
        </p:grpSpPr>
        <p:sp>
          <p:nvSpPr>
            <p:cNvPr id="92" name="AutoShape 27"/>
            <p:cNvSpPr/>
            <p:nvPr/>
          </p:nvSpPr>
          <p:spPr>
            <a:xfrm>
              <a:off x="4067280" y="3286440"/>
              <a:ext cx="3097080" cy="936360"/>
            </a:xfrm>
            <a:prstGeom prst="wedgeRoundRectCallout">
              <a:avLst>
                <a:gd name="adj1" fmla="val 57277"/>
                <a:gd name="adj2" fmla="val -2322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也可以直接假设此商品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月的价格是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" descr=""/>
            <p:cNvPicPr/>
            <p:nvPr/>
          </p:nvPicPr>
          <p:blipFill>
            <a:blip r:embed="rId3"/>
            <a:stretch/>
          </p:blipFill>
          <p:spPr>
            <a:xfrm>
              <a:off x="7247160" y="2997360"/>
              <a:ext cx="1428480" cy="1798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TextBox 10"/>
          <p:cNvSpPr/>
          <p:nvPr/>
        </p:nvSpPr>
        <p:spPr>
          <a:xfrm>
            <a:off x="574560" y="1411200"/>
            <a:ext cx="8245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某种商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月的价格比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月降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%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月的价格比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月又涨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%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月的价格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月比是涨了还是降了？变化幅度是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6" name="TextBox 20"/>
          <p:cNvSpPr/>
          <p:nvPr/>
        </p:nvSpPr>
        <p:spPr>
          <a:xfrm>
            <a:off x="647640" y="5010120"/>
            <a:ext cx="8461440" cy="12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）</a:t>
            </a:r>
            <a:r>
              <a:rPr b="0" i="1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a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20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%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）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＋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20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%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）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0.96</a:t>
            </a:r>
            <a:r>
              <a:rPr b="0" i="1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）（</a:t>
            </a:r>
            <a:r>
              <a:rPr b="0" i="1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a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0.96</a:t>
            </a:r>
            <a:r>
              <a:rPr b="0" i="1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a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）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÷</a:t>
            </a:r>
            <a:r>
              <a:rPr b="0" i="1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a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0.04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4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答：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月的价格和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月比降了，变化幅度是降低了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4%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4920" y="3357720"/>
            <a:ext cx="4427640" cy="1414440"/>
            <a:chOff x="34920" y="3357720"/>
            <a:chExt cx="4427640" cy="1414440"/>
          </a:xfrm>
        </p:grpSpPr>
        <p:pic>
          <p:nvPicPr>
            <p:cNvPr id="98" name="Picture 20" descr="男天使副本"/>
            <p:cNvPicPr/>
            <p:nvPr/>
          </p:nvPicPr>
          <p:blipFill>
            <a:blip r:embed="rId2"/>
            <a:stretch/>
          </p:blipFill>
          <p:spPr>
            <a:xfrm>
              <a:off x="34920" y="3357720"/>
              <a:ext cx="152388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AutoShape 27"/>
            <p:cNvSpPr/>
            <p:nvPr/>
          </p:nvSpPr>
          <p:spPr>
            <a:xfrm>
              <a:off x="1366920" y="3357720"/>
              <a:ext cx="3095640" cy="576360"/>
            </a:xfrm>
            <a:prstGeom prst="wedgeRoundRectCallout">
              <a:avLst>
                <a:gd name="adj1" fmla="val -42513"/>
                <a:gd name="adj2" fmla="val 8718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做对了吗？检查一下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AutoShape 27"/>
          <p:cNvSpPr/>
          <p:nvPr/>
        </p:nvSpPr>
        <p:spPr>
          <a:xfrm>
            <a:off x="4716360" y="2781360"/>
            <a:ext cx="2860920" cy="2087640"/>
          </a:xfrm>
          <a:prstGeom prst="wedgeRoundRectCallout">
            <a:avLst>
              <a:gd name="adj1" fmla="val 58157"/>
              <a:gd name="adj2" fmla="val -11902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我是这样检查的：如果假设此商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月的价格是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元，发现得到的结论和前面得到的结论是一致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7812000" y="2781360"/>
            <a:ext cx="1122480" cy="18000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10"/>
          <p:cNvSpPr/>
          <p:nvPr/>
        </p:nvSpPr>
        <p:spPr>
          <a:xfrm>
            <a:off x="574560" y="1411200"/>
            <a:ext cx="8245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某种商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月的价格比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月降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%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月的价格比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月又涨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%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月的价格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月比是涨了还是降了？变化幅度是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95280" y="4653000"/>
            <a:ext cx="3348000" cy="1800360"/>
            <a:chOff x="395280" y="4653000"/>
            <a:chExt cx="3348000" cy="1800360"/>
          </a:xfrm>
        </p:grpSpPr>
        <p:sp>
          <p:nvSpPr>
            <p:cNvPr id="105" name="AutoShape 27"/>
            <p:cNvSpPr/>
            <p:nvPr/>
          </p:nvSpPr>
          <p:spPr>
            <a:xfrm>
              <a:off x="1638360" y="4915080"/>
              <a:ext cx="2104920" cy="888840"/>
            </a:xfrm>
            <a:prstGeom prst="wedgeRoundRectCallout">
              <a:avLst>
                <a:gd name="adj1" fmla="val -59879"/>
                <a:gd name="adj2" fmla="val -571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00"/>
                  </a:solidFill>
                  <a:latin typeface="Arial"/>
                </a:rPr>
                <a:t>因为单位</a:t>
              </a:r>
              <a:r>
                <a:rPr b="0" lang="zh-CN" sz="18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“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0" lang="zh-CN" sz="18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”</a:t>
              </a:r>
              <a:r>
                <a:rPr b="0" lang="zh-CN" sz="1800" spc="-1" strike="noStrike">
                  <a:solidFill>
                    <a:srgbClr val="ff0000"/>
                  </a:solidFill>
                  <a:latin typeface="Arial"/>
                </a:rPr>
                <a:t>不同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" name="" descr=""/>
            <p:cNvPicPr/>
            <p:nvPr/>
          </p:nvPicPr>
          <p:blipFill>
            <a:blip r:embed="rId2"/>
            <a:stretch/>
          </p:blipFill>
          <p:spPr>
            <a:xfrm>
              <a:off x="395280" y="4653000"/>
              <a:ext cx="1122480" cy="180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7" name=""/>
          <p:cNvGrpSpPr/>
          <p:nvPr/>
        </p:nvGrpSpPr>
        <p:grpSpPr>
          <a:xfrm>
            <a:off x="3924360" y="2924280"/>
            <a:ext cx="4608360" cy="2016000"/>
            <a:chOff x="3924360" y="2924280"/>
            <a:chExt cx="4608360" cy="2016000"/>
          </a:xfrm>
        </p:grpSpPr>
        <p:sp>
          <p:nvSpPr>
            <p:cNvPr id="108" name="AutoShape 27"/>
            <p:cNvSpPr/>
            <p:nvPr/>
          </p:nvSpPr>
          <p:spPr>
            <a:xfrm>
              <a:off x="3924360" y="3213360"/>
              <a:ext cx="3097080" cy="1726920"/>
            </a:xfrm>
            <a:prstGeom prst="wedgeRoundRectCallout">
              <a:avLst>
                <a:gd name="adj1" fmla="val 57277"/>
                <a:gd name="adj2" fmla="val -3547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同学们想一想，为什么降价和涨价的幅度都是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%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，但降价和涨价的具体钱数却不同呢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9" name="" descr=""/>
            <p:cNvPicPr/>
            <p:nvPr/>
          </p:nvPicPr>
          <p:blipFill>
            <a:blip r:embed="rId3"/>
            <a:stretch/>
          </p:blipFill>
          <p:spPr>
            <a:xfrm>
              <a:off x="7104240" y="2924280"/>
              <a:ext cx="1428480" cy="1798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" name="TextBox 10"/>
          <p:cNvSpPr/>
          <p:nvPr/>
        </p:nvSpPr>
        <p:spPr>
          <a:xfrm>
            <a:off x="574560" y="1411200"/>
            <a:ext cx="8245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某种商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月的价格比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月降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%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月的价格比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月又涨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%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月的价格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月比是涨了还是降了？变化幅度是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097360" y="3483000"/>
            <a:ext cx="56160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313000" y="3699000"/>
            <a:ext cx="56160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29000" y="3914640"/>
            <a:ext cx="56160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5000" y="4130640"/>
            <a:ext cx="56160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961000" y="4346640"/>
            <a:ext cx="56160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知识应用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24000" y="1496880"/>
            <a:ext cx="907236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某电视机厂计划某种型号的电视机比去年增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%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实际又比计划的产量多生产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%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此型号的电视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今年的实际产量是去年的百分之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4"/>
          <p:cNvSpPr/>
          <p:nvPr/>
        </p:nvSpPr>
        <p:spPr>
          <a:xfrm>
            <a:off x="611280" y="3284640"/>
            <a:ext cx="36734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5"/>
          <p:cNvSpPr/>
          <p:nvPr/>
        </p:nvSpPr>
        <p:spPr>
          <a:xfrm>
            <a:off x="770040" y="3146400"/>
            <a:ext cx="6769080" cy="31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方法一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假设去年产量是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100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）今年计划产量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  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100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＋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50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%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）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100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150%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150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（台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）今年实际产量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  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150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＋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10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%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）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150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110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%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165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（台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）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165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÷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100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165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答：今年的实际产量是去年的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165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%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知识应用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1" name="TextBox 3"/>
          <p:cNvSpPr/>
          <p:nvPr/>
        </p:nvSpPr>
        <p:spPr>
          <a:xfrm>
            <a:off x="324000" y="1496880"/>
            <a:ext cx="907236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某电视机厂计划某种型号的电视机比去年增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%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实际又比计划的产量多生产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%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此型号的电视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今年的实际产量是去年的百分之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611280" y="3284640"/>
            <a:ext cx="36734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934920" y="3284640"/>
            <a:ext cx="5437440" cy="20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方法二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假设去年产量是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＋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50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%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）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＋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10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%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）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165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答：今年的实际产量是去年的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165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%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Administrator</dc:creator>
  <dc:description/>
  <dc:language>en-US</dc:language>
  <cp:lastModifiedBy/>
  <dcterms:modified xsi:type="dcterms:W3CDTF">2018-09-07T06:45:39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167</vt:lpwstr>
  </property>
</Properties>
</file>